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78648-7DE5-4FB9-9018-A7BC5A803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E836-E2BF-47FA-8190-49F371ED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A9C9-22E7-4A8D-B771-5981181D4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FB22A-A001-4F03-9353-79A0EB27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196B-47BD-4041-858E-03AE645B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D89F-16AA-436D-A4C2-48463247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29B31-3FE2-4328-9615-E66C4352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87126-FFCC-47A0-A659-573890C9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9589-DB28-4281-A365-DBD69265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F27A-1DF4-4F10-9D98-97134423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7E82-851D-4307-9639-DA683D2B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954B-8420-4ADC-8DA7-682C5EE3E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2881-ADC5-415A-881C-65A6A9EB32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UowVsL3dXjM&amp;feature=player_embedded"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Wri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Warm-up</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could be transported anywhere in the world right now, where would you go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Verse continu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t generation refers to a group of writers that came of age in the 1950’s. They were disillusioned with life and society and experimented with many different things. They were the precursor to the hippies of the 196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ritics say it changed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ay it was just ob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adio stations wouldn’t play recordings of Ginsburg read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onsidered a masterpiece of the free-verse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 and compar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UowVsL3dXjM&amp;feature=player_embed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youtu.be/MVGoY9gom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9T03:19:10Z</dcterms:created>
  <dc:creator>Angie</dc:creator>
  <dc:description/>
  <dc:language>en-US</dc:language>
  <cp:lastModifiedBy>Angie</cp:lastModifiedBy>
  <dcterms:modified xsi:type="dcterms:W3CDTF">2011-11-09T03:55:28Z</dcterms:modified>
  <cp:revision>2</cp:revision>
  <dc:subject/>
  <dc:title>Creative Writing</dc:title>
</cp:coreProperties>
</file>